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E648-8499-446E-92B4-EB0230EAB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0FA8-A1D7-42DE-B09B-6993EB8B7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472D-7C8D-4CA8-9EA7-EA1AF6E8A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8C98-7143-4DEE-9C86-3B9DD6F18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969C-FE78-45C2-BDBF-F30240CA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F901-6C3E-4984-BD45-93012A5B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9BD8-6B31-4185-BF3D-4E8C7FCB4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35AF-4FCD-4CAE-8A60-B8DEB1D1A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C38F-DB1E-48B1-BD60-CB3EB7FE8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1837-8E9F-4C62-A7D7-0ABDBC7BB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D445-D33F-4809-8749-2AF3A0D73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F822-E105-45B8-81A0-BA2FBD862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01059C-F465-4D7F-8B6F-17E3BF08FCE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– now: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1-07T07:44:05Z</dcterms:modified>
  <cp:revision>87</cp:revision>
  <dc:subject/>
  <dc:title>No Slide Title</dc:title>
</cp:coreProperties>
</file>